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0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176-0270-404F-A965-D3330C38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17F-57B9-49AC-835A-F8D529F9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2C3-DDA0-42E9-8427-F44A8428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4BD-B057-4390-8C12-B7B2BE60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1D43-E1A0-4202-AACB-12C6BB73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B9D0-BE86-4AE4-8CBB-FA8827C5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BF9D-4E81-4142-94AB-E6D6E5BA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0A35-A8B7-4982-BC64-EF885BE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EA29-ABE7-46E1-88EC-7F7C7314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B2B4-5679-48BC-9139-9F2E6212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5C18-B874-4641-B9D0-BE8B062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622-BAE0-469C-8D06-9907C5A4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F10D-EF41-470E-ACE4-28D474C1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C462-65F8-4CC3-A44A-72DDD92B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3F4B-030E-4F2C-B5BD-4E83FDA8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323C-F492-424D-825F-66241039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8DBC-8B03-47CB-B4BF-2A2CD3D8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94F-DC05-41B0-A2EC-B984A89F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08E-F16C-4759-84BC-FEA51518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920-9336-4DC5-9ED4-987B4A97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EC3-D2F0-4E85-97E9-0CDE67A4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BA4-E955-43F0-B14E-957F065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D2D-917E-48A9-94FE-58E5E27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E7D-28A5-4C43-AFF0-BA345F2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0D8D-3C5F-473B-885F-4FCB951CC5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AC4A-D29B-484B-BA80-1059952BB2D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EST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EVALUARE INI</a:t>
            </a:r>
            <a:r>
              <a:rPr b="0" lang="ro-RO" sz="5000" spc="-1" strike="noStrike">
                <a:solidFill>
                  <a:srgbClr val="006633"/>
                </a:solidFill>
                <a:latin typeface="Garamond"/>
              </a:rPr>
              <a:t>ŢIALĂ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6633"/>
                </a:solidFill>
                <a:latin typeface="Garamond"/>
              </a:rPr>
              <a:t>1. În secolul al XV-lea, portughezii au construit caravela, ambarcaţiune sigură şi rapidă, vasul marilor descoperiri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iveşte cu atenţie vasul din imag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lege dintre obiectele prezentate mai jos, pe cele potrivite şi transformă nava în caravel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orabie-fara-panze-2-400683"/>
          <p:cNvPicPr/>
          <p:nvPr/>
        </p:nvPicPr>
        <p:blipFill>
          <a:blip r:embed="rId1"/>
          <a:stretch/>
        </p:blipFill>
        <p:spPr>
          <a:xfrm>
            <a:off x="5219640" y="2276640"/>
            <a:ext cx="33116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6237360"/>
            <a:ext cx="8229600" cy="3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7210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strolab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usolă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targ cu pânz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âsl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coră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t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e acordă 2 punc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Astrolab"/>
          <p:cNvPicPr/>
          <p:nvPr/>
        </p:nvPicPr>
        <p:blipFill>
          <a:blip r:embed="rId1"/>
          <a:stretch/>
        </p:blipFill>
        <p:spPr>
          <a:xfrm>
            <a:off x="3132000" y="476280"/>
            <a:ext cx="754200" cy="936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usola"/>
          <p:cNvPicPr/>
          <p:nvPr/>
        </p:nvPicPr>
        <p:blipFill>
          <a:blip r:embed="rId2"/>
          <a:stretch/>
        </p:blipFill>
        <p:spPr>
          <a:xfrm>
            <a:off x="4788000" y="1268280"/>
            <a:ext cx="714240" cy="89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248572383-5637633-700_700"/>
          <p:cNvPicPr/>
          <p:nvPr/>
        </p:nvPicPr>
        <p:blipFill>
          <a:blip r:embed="rId3"/>
          <a:stretch/>
        </p:blipFill>
        <p:spPr>
          <a:xfrm>
            <a:off x="3203640" y="2349360"/>
            <a:ext cx="765000" cy="10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vasle-de-aluminiu-deluxe-48--p135720"/>
          <p:cNvPicPr/>
          <p:nvPr/>
        </p:nvPicPr>
        <p:blipFill>
          <a:blip r:embed="rId4"/>
          <a:stretch/>
        </p:blipFill>
        <p:spPr>
          <a:xfrm>
            <a:off x="6516720" y="2852640"/>
            <a:ext cx="903240" cy="93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ancora"/>
          <p:cNvPicPr/>
          <p:nvPr/>
        </p:nvPicPr>
        <p:blipFill>
          <a:blip r:embed="rId5"/>
          <a:stretch/>
        </p:blipFill>
        <p:spPr>
          <a:xfrm>
            <a:off x="2771640" y="4076640"/>
            <a:ext cx="631800" cy="750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motor"/>
          <p:cNvPicPr/>
          <p:nvPr/>
        </p:nvPicPr>
        <p:blipFill>
          <a:blip r:embed="rId6"/>
          <a:stretch/>
        </p:blipFill>
        <p:spPr>
          <a:xfrm>
            <a:off x="4643280" y="4941720"/>
            <a:ext cx="12290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6633"/>
                </a:solidFill>
                <a:latin typeface="Garamond"/>
              </a:rPr>
              <a:t>2. </a:t>
            </a:r>
            <a:r>
              <a:rPr b="0" lang="ro-RO" sz="3200" spc="-1" strike="noStrike">
                <a:solidFill>
                  <a:srgbClr val="006633"/>
                </a:solidFill>
                <a:latin typeface="Garamond"/>
              </a:rPr>
              <a:t>Alegeţi din succesiunea de imagini plantele, animalele şi păsările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use de europeni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Lumea Nou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use de europeni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în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Lumea Nou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Se acordă 3 punc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48320" y="1916280"/>
          <a:ext cx="4171680" cy="1188720"/>
        </p:xfrm>
        <a:graphic>
          <a:graphicData uri="http://schemas.openxmlformats.org/drawingml/2006/table">
            <a:tbl>
              <a:tblPr/>
              <a:tblGrid>
                <a:gridCol w="2085840"/>
                <a:gridCol w="2085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ăsări / Ani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43280" y="4076640"/>
          <a:ext cx="4176720" cy="884160"/>
        </p:xfrm>
        <a:graphic>
          <a:graphicData uri="http://schemas.openxmlformats.org/drawingml/2006/table">
            <a:tbl>
              <a:tblPr/>
              <a:tblGrid>
                <a:gridCol w="2121120"/>
                <a:gridCol w="2055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ăsări / Ani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Picture 4" descr="grau"/>
          <p:cNvPicPr/>
          <p:nvPr/>
        </p:nvPicPr>
        <p:blipFill>
          <a:blip r:embed="rId1"/>
          <a:stretch/>
        </p:blipFill>
        <p:spPr>
          <a:xfrm>
            <a:off x="1547640" y="1484280"/>
            <a:ext cx="1256040" cy="125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porumb"/>
          <p:cNvPicPr/>
          <p:nvPr/>
        </p:nvPicPr>
        <p:blipFill>
          <a:blip r:embed="rId2"/>
          <a:stretch/>
        </p:blipFill>
        <p:spPr>
          <a:xfrm>
            <a:off x="6156360" y="1557360"/>
            <a:ext cx="1584360" cy="1182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cartof"/>
          <p:cNvPicPr/>
          <p:nvPr/>
        </p:nvPicPr>
        <p:blipFill>
          <a:blip r:embed="rId3"/>
          <a:stretch/>
        </p:blipFill>
        <p:spPr>
          <a:xfrm>
            <a:off x="900000" y="5013360"/>
            <a:ext cx="1247760" cy="122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cafea"/>
          <p:cNvPicPr/>
          <p:nvPr/>
        </p:nvPicPr>
        <p:blipFill>
          <a:blip r:embed="rId4"/>
          <a:stretch/>
        </p:blipFill>
        <p:spPr>
          <a:xfrm>
            <a:off x="6516720" y="3286080"/>
            <a:ext cx="1623960" cy="129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JJTZCAU26I2JCA7RDM4OCA8T2IK3CA3I1K15CAEN7TQYCAPD4VUOCAYD0J0QCAICLTKCCAA9AMIRCAJFHY1LCAW4C718CA8DM3IOCARTS2TOCA54V249CAVBGV9LCA92ZCECCAD28WI4CANSC05YCAQ3UZKW"/>
          <p:cNvPicPr/>
          <p:nvPr/>
        </p:nvPicPr>
        <p:blipFill>
          <a:blip r:embed="rId5"/>
          <a:stretch/>
        </p:blipFill>
        <p:spPr>
          <a:xfrm>
            <a:off x="3635280" y="2205000"/>
            <a:ext cx="1657440" cy="138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poza3_m"/>
          <p:cNvPicPr/>
          <p:nvPr/>
        </p:nvPicPr>
        <p:blipFill>
          <a:blip r:embed="rId6"/>
          <a:stretch/>
        </p:blipFill>
        <p:spPr>
          <a:xfrm>
            <a:off x="3059280" y="4437000"/>
            <a:ext cx="1549080" cy="151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EDWNCA7Q519GCAPXV3J4CAH0BUOTCAO4BOUNCA2YLUY5CAKXWSXYCALL1M1GCA6H61STCAED4MD5CAYMYZJWCALJ7Y1ECAQYIUMKCAIQJMI0CAQS00RCCANZEL98CAA3X9DJCASL3DZDCAEFKDPXCAS1XOFP"/>
          <p:cNvPicPr/>
          <p:nvPr/>
        </p:nvPicPr>
        <p:blipFill>
          <a:blip r:embed="rId7"/>
          <a:stretch/>
        </p:blipFill>
        <p:spPr>
          <a:xfrm>
            <a:off x="5796000" y="494172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HUDDCA71VWHFCAJFIUDSCANS7AABCATBCTY5CALBAM0DCA4W2VU5CAQFK91MCAI6BWS8CA2S91URCAEBP484CAA6L961CA54EEHSCA0VD3CQCAN67GSFCA4EJCTICAQF3C1DCAO0MHLKCAH1ARISCANX3KCV"/>
          <p:cNvPicPr/>
          <p:nvPr/>
        </p:nvPicPr>
        <p:blipFill>
          <a:blip r:embed="rId8"/>
          <a:stretch/>
        </p:blipFill>
        <p:spPr>
          <a:xfrm>
            <a:off x="826920" y="2924280"/>
            <a:ext cx="1676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Picture 4" descr="cal"/>
          <p:cNvPicPr/>
          <p:nvPr/>
        </p:nvPicPr>
        <p:blipFill>
          <a:blip r:embed="rId1"/>
          <a:stretch/>
        </p:blipFill>
        <p:spPr>
          <a:xfrm>
            <a:off x="1187280" y="1413000"/>
            <a:ext cx="194184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magar"/>
          <p:cNvPicPr/>
          <p:nvPr/>
        </p:nvPicPr>
        <p:blipFill>
          <a:blip r:embed="rId2"/>
          <a:stretch/>
        </p:blipFill>
        <p:spPr>
          <a:xfrm>
            <a:off x="6156360" y="1341360"/>
            <a:ext cx="1523880" cy="10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bivol"/>
          <p:cNvPicPr/>
          <p:nvPr/>
        </p:nvPicPr>
        <p:blipFill>
          <a:blip r:embed="rId3"/>
          <a:stretch/>
        </p:blipFill>
        <p:spPr>
          <a:xfrm>
            <a:off x="1187280" y="3357720"/>
            <a:ext cx="1551240" cy="122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curcan"/>
          <p:cNvPicPr/>
          <p:nvPr/>
        </p:nvPicPr>
        <p:blipFill>
          <a:blip r:embed="rId4"/>
          <a:stretch/>
        </p:blipFill>
        <p:spPr>
          <a:xfrm>
            <a:off x="6084720" y="3357720"/>
            <a:ext cx="1571760" cy="186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papagal"/>
          <p:cNvPicPr/>
          <p:nvPr/>
        </p:nvPicPr>
        <p:blipFill>
          <a:blip r:embed="rId5"/>
          <a:stretch/>
        </p:blipFill>
        <p:spPr>
          <a:xfrm>
            <a:off x="3924360" y="1484280"/>
            <a:ext cx="1247760" cy="18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JDC6CAXTVXC0CACNFLVNCAO3HTCQCATUSTTWCAQFMJAPCAKQOPHWCA1YGWNUCAJQFY39CAJPQV0ICANSAOCRCATQ4E8YCA7QK8MSCAU6I9B8CA3SGBSCCA2SVN59CAC9QMSOCAO1QBD9CAMIAKQJCAS3704E"/>
          <p:cNvPicPr/>
          <p:nvPr/>
        </p:nvPicPr>
        <p:blipFill>
          <a:blip r:embed="rId6"/>
          <a:stretch/>
        </p:blipFill>
        <p:spPr>
          <a:xfrm>
            <a:off x="3492360" y="4076640"/>
            <a:ext cx="19447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6633"/>
                </a:solidFill>
                <a:latin typeface="Garamond"/>
              </a:rPr>
              <a:t>3. </a:t>
            </a:r>
            <a:r>
              <a:rPr b="0" lang="ro-RO" sz="3200" spc="-1" strike="noStrike">
                <a:solidFill>
                  <a:srgbClr val="006633"/>
                </a:solidFill>
                <a:latin typeface="Garamond"/>
              </a:rPr>
              <a:t>Completaţi ciorchinele de mai jos cu noţiunile cunoscute despre marile descoperiri geografic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Se acordă 4 punc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1619280" y="2133720"/>
            <a:ext cx="4677840" cy="3670920"/>
            <a:chOff x="1619280" y="2133720"/>
            <a:chExt cx="4677840" cy="3670920"/>
          </a:xfrm>
        </p:grpSpPr>
        <p:sp>
          <p:nvSpPr>
            <p:cNvPr id="122" name="Line 5"/>
            <p:cNvSpPr/>
            <p:nvPr/>
          </p:nvSpPr>
          <p:spPr>
            <a:xfrm flipH="1" flipV="1">
              <a:off x="3791160" y="4754880"/>
              <a:ext cx="16560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 flipH="1" flipV="1">
              <a:off x="4045320" y="4637160"/>
              <a:ext cx="80676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 flipH="1">
              <a:off x="3957120" y="3177360"/>
              <a:ext cx="1473840" cy="10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 flipH="1">
              <a:off x="3702960" y="2758320"/>
              <a:ext cx="861840" cy="134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1619280" y="2758320"/>
              <a:ext cx="865800" cy="83448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4392000" y="2342880"/>
              <a:ext cx="952560" cy="62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1"/>
            <p:cNvSpPr/>
            <p:nvPr/>
          </p:nvSpPr>
          <p:spPr>
            <a:xfrm>
              <a:off x="2571840" y="2345400"/>
              <a:ext cx="781200" cy="834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2"/>
            <p:cNvSpPr/>
            <p:nvPr/>
          </p:nvSpPr>
          <p:spPr>
            <a:xfrm>
              <a:off x="5084640" y="3593160"/>
              <a:ext cx="865800" cy="833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"/>
            <p:cNvSpPr/>
            <p:nvPr/>
          </p:nvSpPr>
          <p:spPr>
            <a:xfrm>
              <a:off x="3702960" y="4970880"/>
              <a:ext cx="1038960" cy="83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>
              <a:off x="2485080" y="4011480"/>
              <a:ext cx="1733400" cy="8319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200" spc="-1" strike="noStrike">
                  <a:solidFill>
                    <a:srgbClr val="000000"/>
                  </a:solidFill>
                  <a:latin typeface="Arial"/>
                </a:rPr>
                <a:t>MARILE DESCOPERIRI GEOGRAF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H="1">
              <a:off x="4218480" y="4011480"/>
              <a:ext cx="865800" cy="41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H="1" flipV="1">
              <a:off x="2398680" y="3382920"/>
              <a:ext cx="5083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 flipV="1">
              <a:off x="3437640" y="2758320"/>
              <a:ext cx="346320" cy="12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8"/>
            <p:cNvSpPr/>
            <p:nvPr/>
          </p:nvSpPr>
          <p:spPr>
            <a:xfrm>
              <a:off x="3437640" y="2133720"/>
              <a:ext cx="954000" cy="6246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9"/>
            <p:cNvSpPr/>
            <p:nvPr/>
          </p:nvSpPr>
          <p:spPr>
            <a:xfrm>
              <a:off x="4764240" y="4536720"/>
              <a:ext cx="1038960" cy="834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0"/>
            <p:cNvSpPr/>
            <p:nvPr/>
          </p:nvSpPr>
          <p:spPr>
            <a:xfrm>
              <a:off x="5344560" y="2552040"/>
              <a:ext cx="952560" cy="8312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3006720" y="3177360"/>
              <a:ext cx="172800" cy="8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6633"/>
                </a:solidFill>
                <a:latin typeface="Garamond"/>
              </a:rPr>
              <a:t>Barem de notare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1. Se acordă 2 punc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2. Se acordă 3 punc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3. Se acordă 4 punc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Se acordă 1 punct din ofi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Total : 10 punc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41:50Z</dcterms:created>
  <dc:creator>SPORTIV</dc:creator>
  <dc:description/>
  <dc:language>en-US</dc:language>
  <cp:lastModifiedBy>Carmen</cp:lastModifiedBy>
  <dcterms:modified xsi:type="dcterms:W3CDTF">2011-03-24T08:55:21Z</dcterms:modified>
  <cp:revision>15</cp:revision>
  <dc:subject/>
  <dc:title>TEST  DE EVALUARE INIŢIALĂ</dc:title>
</cp:coreProperties>
</file>